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4016520" y="-36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200240" y="703080"/>
            <a:ext cx="4687920" cy="351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320" rIns="9432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44280" y="4451400"/>
            <a:ext cx="5197320" cy="421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890388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4016520" y="890388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FDBCBED-F65C-4155-8C63-CA5C32CFD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DBD5DDB-714F-4D19-8A14-19483C527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57320" y="4371480"/>
            <a:ext cx="677376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43CCF5E-0470-4510-8DB2-7B9FBCF17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-360" y="4292280"/>
            <a:ext cx="7086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A4CE528-191E-44CC-BDE2-285CF9388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-360" y="4292280"/>
            <a:ext cx="7086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FF3FD8D-675C-489C-BB92-CA3FDF649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-360" y="4292280"/>
            <a:ext cx="7086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A7F4A28-43D0-41C3-B709-9AE8B9A16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-360" y="4292280"/>
            <a:ext cx="7086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2F46A40-E366-43D4-B9CE-5347F3F3C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-360" y="4292280"/>
            <a:ext cx="7086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197EAC0-5C82-401E-9EF2-EA8CE05AF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-360" y="4292280"/>
            <a:ext cx="7086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E1AF652-D26B-4443-8178-4D9F671D5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-360" y="4292280"/>
            <a:ext cx="7086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4B64-7C7D-47C4-B901-402AFE396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9BC4-AD21-470A-8D72-97F432FA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9AD0-8C4B-45D2-9220-F0688108F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213C-F3EC-4EB1-92BC-C0FDC15D7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5546-0CD1-458A-99E0-2B11CD95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992A-69B9-4C1D-88C2-1A6E5ADF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8299-3353-4354-A814-F81DC488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7440-444E-4BD6-B20A-46AA3501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8F91-69B6-4959-BA4B-15E6BD87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7C39-D674-41B8-8924-A7559FB2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8D7E-6F7E-42C0-99F5-468304CD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CDC5-A367-4CC4-9572-4D0EE701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9892-0980-4B68-BD9F-612571D1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AE4F-A497-491C-8D4D-B545527F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B55E-F397-49EE-9E55-BB389606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FF05-98B1-4638-B2C8-BC8A91BEE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425A-9B18-4144-A883-F8B5880E8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64B05-00EB-4A53-94AE-9C4EA7562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BB942-8CC1-47C9-B931-8B190B39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1FFAE-D915-40BB-9240-71A8AFA5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CE628-0293-4289-B2BB-EACB3561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A4A76-A753-40D5-8558-6CFA638B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C880-0E73-400F-ADD8-2D8E897E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0A97B-3C97-4E3C-8420-8405B67E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630C3-B43D-4B26-A369-E21935A9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09B15-D6A3-429A-919A-42ACD583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F99EF-1129-4C0F-A472-C22110E2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1C380-398B-43CF-840B-06F4D1B7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F083D-3ADA-4F3D-B702-117389CD3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BF724-9CD2-44B3-96D4-6607D341C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A9998-0B4F-4D08-8654-54FCB72B9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5D8E1-4DD5-406B-A42E-F9CB267F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83F1C-3B80-46E3-B688-A5AC6E4E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544A-4DA9-4359-B9DE-0E789380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D7416-487C-473B-B1AD-C7B5A6F6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A9B44-7CBC-4F41-B8ED-99D7043D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38492-C728-4B26-B031-93EE6704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365A2-6945-41A9-9E59-B97BCC19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9D416-B62B-468A-ABFC-9B7049DD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D4FDC-0177-4ED1-945F-3FA064E7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E1C95-D00E-4F08-A214-FCDA2966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FB6EB-269B-4F66-A611-1E199E2E3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015BD-98B2-45FB-B430-49976062A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8B6B-32EF-4AE8-A84D-BD7BFF74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E81E-930A-4344-80E3-D1F07B96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1D1E-7768-4B0B-8201-AC2B8061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1452-E0BF-4FEE-AE62-A3B06BC1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E3A9-7933-48D7-B88F-E7EB1B7D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208B-9307-4B88-B912-B897333A9CD4}" type="slidenum">
              <a:rPr b="0" lang="en-US" sz="1200" spc="-1" strike="noStrike">
                <a:solidFill>
                  <a:srgbClr val="045c75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AEA0-BD8F-4C3E-9084-676153984CED}" type="slidenum">
              <a:rPr b="0" lang="en-US" sz="1200" spc="-1" strike="noStrike">
                <a:solidFill>
                  <a:srgbClr val="d1eaee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CAB3-1DE3-4F4E-A0DA-C47F4B5AEF33}" type="slidenum">
              <a:rPr b="0" lang="en-US" sz="1200" spc="-1" strike="noStrike">
                <a:solidFill>
                  <a:srgbClr val="d1eaee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D222-4DC6-4DC6-AF88-417695E96635}" type="slidenum">
              <a:rPr b="0" lang="en-US" sz="1200" spc="-1" strike="noStrike">
                <a:solidFill>
                  <a:srgbClr val="045c75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id-Term Presentation</a:t>
            </a:r>
            <a:br>
              <a:rPr sz="4900"/>
            </a:br>
            <a:r>
              <a:rPr b="1" lang="en-US" sz="55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How assisted reading</a:t>
            </a:r>
            <a:br>
              <a:rPr sz="5500"/>
            </a:br>
            <a:r>
              <a:rPr b="1" lang="en-US" sz="55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helps improve </a:t>
            </a:r>
            <a:br>
              <a:rPr sz="5500"/>
            </a:br>
            <a:r>
              <a:rPr b="1" lang="en-US" sz="55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reading fluency and comprehension </a:t>
            </a:r>
            <a:br>
              <a:rPr sz="4900"/>
            </a:b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" y="4648320"/>
            <a:ext cx="777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sana Samoylov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SE 7201T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 2016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inar in Applied Theory and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I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4" name="Picture 6" descr="Image result for assisted reading helps improve reading fluency and comprehension"/>
          <p:cNvPicPr/>
          <p:nvPr/>
        </p:nvPicPr>
        <p:blipFill>
          <a:blip r:embed="rId1"/>
          <a:stretch/>
        </p:blipFill>
        <p:spPr>
          <a:xfrm>
            <a:off x="5359320" y="3886200"/>
            <a:ext cx="3556080" cy="2666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5715000" y="57913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Table of Contents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7524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                                 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 of the Problem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 of research         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thesis                      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                         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of the Literature 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7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s                      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8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5715000" y="57913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Statement of Proble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nstantia"/>
              </a:rPr>
              <a:t>Fluency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is one of the defining characteristics of good readers and a lack of fluency is a common characteristic of poor readers as well as a reliable predictor of reading comprehension proble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tudents of different ages and reading levels, especially English Language Learners (ELL) and students with learning disabilities have problems with fluency and reading comprehension of different texts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5715000" y="57913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Purpose of research: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85840" y="1676160"/>
            <a:ext cx="4876920" cy="35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By conducting this research,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I want to measure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how the assisted reading approach affects fluency and reading comprehens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of  beginner readers or English Language Learner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3" descr="Image result for assisted reading"/>
          <p:cNvPicPr/>
          <p:nvPr/>
        </p:nvPicPr>
        <p:blipFill>
          <a:blip r:embed="rId1"/>
          <a:srcRect l="6159" t="0" r="15829" b="-1616"/>
          <a:stretch/>
        </p:blipFill>
        <p:spPr>
          <a:xfrm>
            <a:off x="598320" y="1371600"/>
            <a:ext cx="2982960" cy="259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15" name="Picture 5" descr="Image result for assisted reading"/>
          <p:cNvPicPr/>
          <p:nvPr/>
        </p:nvPicPr>
        <p:blipFill>
          <a:blip r:embed="rId2"/>
          <a:srcRect l="0" t="11430" r="7860" b="0"/>
          <a:stretch/>
        </p:blipFill>
        <p:spPr>
          <a:xfrm>
            <a:off x="380880" y="4038480"/>
            <a:ext cx="3353040" cy="2417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5715000" y="57913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Hypothesis: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294920"/>
            <a:ext cx="8534160" cy="474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ssisted instruction given in form of the repeated out-loud reading or audio-assisted reading will improve both fluency and reading comprehension of a group of ELL students at the public schoo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u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ree times a week, for 35 minutes each session, over two month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o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n a mainstream classroom, at the local showcase public school in Brookly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udents (6 boys and 4 girls), age 9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rade, English Language Learners, no IEP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4"/>
          <p:cNvSpPr/>
          <p:nvPr/>
        </p:nvSpPr>
        <p:spPr>
          <a:xfrm>
            <a:off x="5715000" y="57913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Variables: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0880" y="1447560"/>
            <a:ext cx="83822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dependent Vari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sted instruction given in forms of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peated out-loud read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udio-assisted reading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pendent Varia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effects of the intervention on reading fluency and comprehension that will be measured in form of the series of test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-te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measure initial abilities of student to read fluently and comprehend text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-te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measure and modify the instruction if necessary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-te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measure students' fluency and reading comprehension after interven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5715000" y="57913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Review of Literature: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190760" y="1066680"/>
            <a:ext cx="4800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n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some limitations in this research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ther variables to consider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 characteristics of student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rning and physical disabilities of student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mount of time students spend at home practicing reading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interventions, etc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f the studies that suggests to conduct more research before making any generalization is called “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ing for generalization of oral reading fluency using computer-assisted instruction and changing fluency criteria” b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s, Cartledge, Gibson and Robinson-Ervin, 2016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304920" y="1086120"/>
            <a:ext cx="3886200" cy="50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Calibri"/>
              </a:rPr>
              <a:t>Pro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There are multiple studies that were conducted previously show: 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assisted reading together with repetition can improve not only fluency, but also reading comprehension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during the assisted reading sessions, a student works on a text, using visual as well as audio senses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Calibri"/>
              </a:rPr>
              <a:t>One of the studies that supports my research was done by Rasinski and Young  and called “Assisted reading - a bridge from fluency to comprehension”, 2014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4"/>
          <p:cNvSpPr/>
          <p:nvPr/>
        </p:nvSpPr>
        <p:spPr>
          <a:xfrm>
            <a:off x="5715000" y="57913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152280" y="491040"/>
            <a:ext cx="8763120" cy="60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                </a:t>
            </a:r>
            <a:r>
              <a:rPr b="1" lang="en-US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References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rton-Arwood, S. M., Wehby, J. H., &amp; Falk, K. B. (2005). Reading instruction for elementary-age   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udents with emotional and behavioral disorders: academic and behavioral outcomes.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xceptional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ildren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2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1), 7-27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Dowhower, S. L. (1987). Effects of repeated reading on second-grade transitional readers’ fluency and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          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comprehension. </a:t>
            </a:r>
            <a:r>
              <a:rPr b="0" i="1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Reading Research Quarterly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, 389-406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steves, K. J., &amp; Whitten, E. (2011). Assisted reading with digital audio books for students with reading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sabilities.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ding Horizo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51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1), 21-40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Hapstak, J., &amp; Tracey, D. H. (2007). Effects of assisted-repeated reading on students of varying reading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bility: A single-subject experimental research study.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ding Horizo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47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4), 315-334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Hudson, R. F., Lane, H. B., &amp; Pullen, P. C. (2005). Reading fluency assessment and instruction: What,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          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why, and how?. </a:t>
            </a:r>
            <a:r>
              <a:rPr b="0" i="1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The Reading Teacher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, </a:t>
            </a:r>
            <a:r>
              <a:rPr b="0" i="1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58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(8), 702-714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Keyes, S., Cartledge, G., Gibson Jr., L., &amp; Robinson-Ervin, P. (2016). Programming for generalization of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al reading fluency using computer-assisted instruction and changing fluency criteria.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ducation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 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&amp; Treatment of Children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9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2), 141-172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asinski, T., &amp; Young, C. (2014). Assisted reading-a bridge from fluency to comprehension.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w 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 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gland Reading Association Journal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50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1), 1-4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evens, R. J. (2006). Developing reading fluency: What does the research say?.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alyst For 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 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ange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4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1), 37-44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aguchi, E. t., Melhem, L. l., &amp; Kawaguchi, T. a. (2016). Assisted reading: a flexible approach to L2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ding fluency building.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ding Matrix: An International Online Journal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6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1), 106-118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Therrien, W. J. (2004). Fluency and comprehension gains as a result of repeated reading a meta-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           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analysis. </a:t>
            </a:r>
            <a:r>
              <a:rPr b="0" i="1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Remedial and special education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, </a:t>
            </a:r>
            <a:r>
              <a:rPr b="0" i="1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25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(4), 252-261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6T23:17:37Z</dcterms:created>
  <dc:creator>Molloy</dc:creator>
  <dc:description/>
  <dc:language>en-US</dc:language>
  <cp:lastModifiedBy>Windows User</cp:lastModifiedBy>
  <dcterms:modified xsi:type="dcterms:W3CDTF">2016-10-18T19:20:59Z</dcterms:modified>
  <cp:revision>103</cp:revision>
  <dc:subject/>
  <dc:title>Gender Paradigms &amp; Theories   What’s in the R2 ??</dc:title>
</cp:coreProperties>
</file>